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9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15.wmf" ContentType="image/x-wmf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8E010-9B31-4CBB-8C8E-50742FE445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ues often appear on the top or bottom of a page, or in menu bars and frames.  These sections often contain authorship clue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lling and grammatical errors are important clues that a site ought to be avoided as a source.  Be on the lookout for information that just doesn’t “feel right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earch is not a contest. It doesn’t matter how many sources you collect.  What does matter is their quality and their relevanc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you give examples of when it would be more or less important to have your site be current?  Is it important that an author keep a site maintain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very suspicious of information that appears out of nowhere.  Unless this is a completely original source some documentation ought to be present for you to take the page serious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various reasons people choose to publish on the Web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Web publishing different from traditional print--book, magazine, newspaper--publishing?  Who filtered (or selected) those resources for qualit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old days, we had good old print to rely on.  Books and magazines still go through a filtering process for quality.  Before they are published, they are double-checked by authors and edited for accuracy by a variety of professionals.  This is nOT the case with material on the free Web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discover an author has a Ph.D.  Do you need to investigate any further? What if her degree is in physics and the site she wrote is on Shakespea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everything on Geocities bad?  Would your teacher question you citing a source that resided on a free server?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often it is difficult to find information about authorship.  That may be a clue in itself.  However, if you really want to use a page, do not give up!  You may have to dig a little deeper to establish a page’s authorit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D6D6-264D-45BD-B1B7-429FFF306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426708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71600" y="498384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C6A5-5BA0-479D-8D2D-92A0A95F3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4267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4267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71600" y="49838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51560" y="49838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65B8-E38C-419A-83C3-D96A3766E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42670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35560" y="42670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699880" y="42670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71600" y="49838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35560" y="49838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699880" y="49838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C8B5-8D73-401D-80BC-87B481B17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8F43D-2EDC-460F-8BD5-488335901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42670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87FB1-FF55-47E7-A00C-7F8F2D7F2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2670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A2703-C05E-495F-88FF-33B8A3ED4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42670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42670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66DEA-6A29-4604-852B-B8636C4F1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765B6-5F57-4DC5-B44C-624EEE301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85800" y="2819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E29E2-24A2-4D9A-90EE-3EDEA00A2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4267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42670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9838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9BC95-A64E-4DD3-84B2-7C38B3338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71600" y="42670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5B80-DB99-42B7-AAD2-B316F13AD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2670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4267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51560" y="49838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6C48F-48E7-4B27-AE07-C1E3C11AE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4267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1560" y="4267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71600" y="498384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8A3B8-400E-4759-9145-E0C13C0A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426708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371600" y="498384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DD6C8-3344-4A0F-9873-E0A9A8680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4267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51560" y="4267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371600" y="49838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51560" y="49838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705DD-7B91-4684-9596-50AC3B377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42670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35560" y="42670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699880" y="42670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371600" y="49838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35560" y="49838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699880" y="49838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3B520-AC64-443F-978F-017672A48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42670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0A3C-5F43-4168-9AD6-DBE03EFB4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42670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42670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12E1-9494-427B-BD6D-11A7E0C7A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950E-CD61-47D7-B693-446475F78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2819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3A75-FF17-4052-90F8-CC1577442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4267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42670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9838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42B8-4B57-4FF4-BEE3-828639C33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42670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4267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51560" y="49838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D7B2-635D-4546-99F4-34686A6A3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267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4267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98384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D89E-401C-40DD-BE40-997F15638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V="1" rot="16200000">
            <a:off x="4304520" y="6513480"/>
            <a:ext cx="610200" cy="685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1203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12031"/>
              </a:path>
            </a:pathLst>
          </a:cu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152280"/>
            <a:ext cx="9144000" cy="6629400"/>
            <a:chOff x="0" y="152280"/>
            <a:chExt cx="9144000" cy="6629400"/>
          </a:xfrm>
        </p:grpSpPr>
        <p:sp>
          <p:nvSpPr>
            <p:cNvPr id="2" name=""/>
            <p:cNvSpPr/>
            <p:nvPr/>
          </p:nvSpPr>
          <p:spPr>
            <a:xfrm flipH="1">
              <a:off x="5029200" y="152280"/>
              <a:ext cx="4114800" cy="6629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2305" y="540"/>
                    <a:pt x="3009" y="5080"/>
                    <a:pt x="3009" y="10800"/>
                  </a:cubicBezTo>
                  <a:cubicBezTo>
                    <a:pt x="3009" y="16520"/>
                    <a:pt x="12305" y="21060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52280"/>
              <a:ext cx="4114800" cy="6629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2305" y="540"/>
                    <a:pt x="3009" y="5080"/>
                    <a:pt x="3009" y="10800"/>
                  </a:cubicBezTo>
                  <a:cubicBezTo>
                    <a:pt x="3009" y="16520"/>
                    <a:pt x="12305" y="21060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grpSp>
        <p:nvGrpSpPr>
          <p:cNvPr id="4" name=""/>
          <p:cNvGrpSpPr/>
          <p:nvPr/>
        </p:nvGrpSpPr>
        <p:grpSpPr>
          <a:xfrm>
            <a:off x="228600" y="76320"/>
            <a:ext cx="8763120" cy="1523880"/>
            <a:chOff x="228600" y="76320"/>
            <a:chExt cx="8763120" cy="1523880"/>
          </a:xfrm>
        </p:grpSpPr>
        <p:sp>
          <p:nvSpPr>
            <p:cNvPr id="5" name=""/>
            <p:cNvSpPr/>
            <p:nvPr/>
          </p:nvSpPr>
          <p:spPr>
            <a:xfrm>
              <a:off x="228600" y="76320"/>
              <a:ext cx="3962520" cy="1523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1497" y="250"/>
                    <a:pt x="1393" y="5080"/>
                    <a:pt x="1393" y="10800"/>
                  </a:cubicBezTo>
                  <a:cubicBezTo>
                    <a:pt x="1393" y="16520"/>
                    <a:pt x="11497" y="21350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66ff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>
              <a:off x="4724280" y="76320"/>
              <a:ext cx="4267440" cy="1523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1497" y="250"/>
                    <a:pt x="1393" y="5080"/>
                    <a:pt x="1393" y="10800"/>
                  </a:cubicBezTo>
                  <a:cubicBezTo>
                    <a:pt x="1393" y="16520"/>
                    <a:pt x="11497" y="21350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66ff33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80" y="152280"/>
              <a:ext cx="7925040" cy="1371600"/>
            </a:xfrm>
            <a:prstGeom prst="ellipse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6933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990720" y="1905120"/>
            <a:ext cx="7315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ccff"/>
              </a:buClr>
              <a:buFont typeface="Times New Roman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4d4d4d"/>
              </a:buClr>
              <a:buFont typeface="Times New Roman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99ccff"/>
              </a:buClr>
              <a:buFont typeface="Times New Roman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4d4d4d"/>
              </a:buClr>
              <a:buFont typeface="Times New Roman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99ccff"/>
              </a:buClr>
              <a:buFont typeface="Times New Roman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4d4d4d"/>
              </a:buClr>
              <a:buFont typeface="Times New Roman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4d4d4d"/>
              </a:buClr>
              <a:buFont typeface="Times New Roman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1522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2362320" y="6400800"/>
            <a:ext cx="4952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71625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77BA5-39BE-4762-9F25-41FB2CB441F1}" type="slidenum">
              <a:rPr b="0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76320"/>
            <a:ext cx="9144000" cy="6705360"/>
            <a:chOff x="0" y="76320"/>
            <a:chExt cx="9144000" cy="6705360"/>
          </a:xfrm>
        </p:grpSpPr>
        <p:sp>
          <p:nvSpPr>
            <p:cNvPr id="50" name=""/>
            <p:cNvSpPr/>
            <p:nvPr/>
          </p:nvSpPr>
          <p:spPr>
            <a:xfrm flipH="1">
              <a:off x="5029200" y="152280"/>
              <a:ext cx="4114800" cy="6629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2305" y="540"/>
                    <a:pt x="3009" y="5080"/>
                    <a:pt x="3009" y="10800"/>
                  </a:cubicBezTo>
                  <a:cubicBezTo>
                    <a:pt x="3009" y="16520"/>
                    <a:pt x="12305" y="21060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99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76320"/>
              <a:ext cx="4114800" cy="6705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2305" y="540"/>
                    <a:pt x="3009" y="5080"/>
                    <a:pt x="3009" y="10800"/>
                  </a:cubicBezTo>
                  <a:cubicBezTo>
                    <a:pt x="3009" y="16520"/>
                    <a:pt x="12305" y="21060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99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228600" y="2590920"/>
            <a:ext cx="8763120" cy="1523880"/>
            <a:chOff x="228600" y="2590920"/>
            <a:chExt cx="8763120" cy="1523880"/>
          </a:xfrm>
        </p:grpSpPr>
        <p:sp>
          <p:nvSpPr>
            <p:cNvPr id="53" name=""/>
            <p:cNvSpPr/>
            <p:nvPr/>
          </p:nvSpPr>
          <p:spPr>
            <a:xfrm>
              <a:off x="228600" y="2590920"/>
              <a:ext cx="3962520" cy="1523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1497" y="250"/>
                    <a:pt x="1393" y="5080"/>
                    <a:pt x="1393" y="10800"/>
                  </a:cubicBezTo>
                  <a:cubicBezTo>
                    <a:pt x="1393" y="16520"/>
                    <a:pt x="11497" y="21350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66ff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4724280" y="2590920"/>
              <a:ext cx="4267440" cy="1523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1497" y="250"/>
                    <a:pt x="1393" y="5080"/>
                    <a:pt x="1393" y="10800"/>
                  </a:cubicBezTo>
                  <a:cubicBezTo>
                    <a:pt x="1393" y="16520"/>
                    <a:pt x="11497" y="21350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66ff33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480" y="2666880"/>
              <a:ext cx="7925040" cy="1371600"/>
            </a:xfrm>
            <a:prstGeom prst="ellipse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2514240" y="624852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2AEF1-BCA2-4718-B8AD-4555C09EC408}" type="slidenum">
              <a:rPr b="0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ccff"/>
              </a:buClr>
              <a:buFont typeface="Times New Roman"/>
              <a:buChar char="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d4d4d"/>
              </a:buClr>
              <a:buFont typeface="Times New Roman"/>
              <a:buChar char="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99ccff"/>
              </a:buClr>
              <a:buFont typeface="Times New Roman"/>
              <a:buChar char="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d4d4d"/>
              </a:buClr>
              <a:buFont typeface="Times New Roman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d4d4d"/>
              </a:buClr>
              <a:buFont typeface="Times New Roman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cc"/>
                </a:solidFill>
                <a:latin typeface="Arial"/>
              </a:rPr>
              <a:t>Hey there! </a:t>
            </a:r>
            <a:br>
              <a:rPr sz="6000"/>
            </a:br>
            <a:r>
              <a:rPr b="0" lang="en-US" sz="6000" spc="-1" strike="noStrike">
                <a:solidFill>
                  <a:srgbClr val="6600cc"/>
                </a:solidFill>
                <a:latin typeface="Arial"/>
              </a:rPr>
              <a:t>Have you evaluated?</a:t>
            </a:r>
            <a:endParaRPr b="0" lang="en-US" sz="60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4400" y="487692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s that 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ite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4d4d4d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ood enough to 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ite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4d4d4d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429000" y="2286000"/>
            <a:ext cx="23814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6933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Look for credibility clues!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315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ds and phrases to look for: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bout us, Who Am I, FAQs, For More, Company Information, Profiles, Our Staff, Home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-mail the author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have no information other than an e-mail link, write a polite e-mail asking for more information.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943600" y="5405400"/>
            <a:ext cx="984240" cy="14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6933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Truncate the URL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find out more information about a web site, go to the home page by truncating the URL.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 characters in the address up to the next slash mark to see what the domain of the address is.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1760" y="3809880"/>
            <a:ext cx="817992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 from: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statecollege.edu/history/middleages/chaucer/smith.htm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statecollege.edu/history/middleages/chaucer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statecollege.edu/history/middleages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statecollege.edu/history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statecollege.edu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0" dur="1" fill="hold"/>
                                  <p:tgtEl>
                                    <p:spTgt spid="134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6933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187534"/>
                </a:solidFill>
                <a:latin typeface="Wide Lati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CURACY:</a:t>
            </a:r>
            <a:endParaRPr b="0" lang="en-US" sz="36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73152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facts agree with other sources?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your knowledge, does the information seem correct? 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there appear to be errors on the page (spelling, grammar, facts)?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505320" y="4705200"/>
            <a:ext cx="182376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6933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f1f1d"/>
                </a:solidFill>
                <a:latin typeface="Wide Lati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ABILITY:</a:t>
            </a:r>
            <a:endParaRPr b="0" lang="en-US" sz="28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315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the source present a particular view?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page connected to a group that wants to make you think a certain way?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page selling a product?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6933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7518"/>
                </a:solidFill>
                <a:latin typeface="Wide Lati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V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315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this information answer my question?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eliminate or ignore it because it simply doesn’t help me?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6933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184b81"/>
                </a:solidFill>
                <a:latin typeface="Wide Lati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E:</a:t>
            </a:r>
            <a:endParaRPr b="0" lang="en-US" sz="28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315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was this information created? 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was it revised? 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these dates important to my subject?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the author of the page stopped maintaining it?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e suspicious of undated material.)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657600" y="4952880"/>
            <a:ext cx="1676520" cy="14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6933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dc54ad"/>
                </a:solidFill>
                <a:latin typeface="Wide Lati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CES BEHIND THE TEXT</a:t>
            </a:r>
            <a:endParaRPr b="0" lang="en-US" sz="2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315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re a bibliography?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these websites or books real? Have you or your librarian heard of or been able to check them?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kind of links did the author choose?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the hyperlinks reliable, valuable?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the links work?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010280" y="457200"/>
            <a:ext cx="1676520" cy="16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6933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c18b0"/>
                </a:solidFill>
                <a:latin typeface="Wide Lati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E / PURPOSE:</a:t>
            </a:r>
            <a:endParaRPr b="0" lang="en-US" sz="2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315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it material I can read and understand?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it too simple? Is it too challenging?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was this page created? To inform or explain?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persuade? To sell?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6933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What can you </a:t>
            </a:r>
            <a:br>
              <a:rPr sz="4400"/>
            </a:b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learn from a URL?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7315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forget to check the URL to get a clue about the site.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trategy is only a guideline. People can easily purchase domains.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6933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URLs as clues to content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38862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m=commercial sites (vary in their credibility)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gov=U.S. government site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rg=organization, often non-profit. Some have strong bias and agenda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edu=school or university site (is it K-12? By a student? By a scholar?)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store=retail busines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int=international institution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495680" y="1752120"/>
            <a:ext cx="3810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c=educational institution (like .edu)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mil=U.S. military site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net=networked service provider, Internet administrative site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museum=museum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name=individual Internet user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biz=a busines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pro=professional’s site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=personal site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133720" y="3048120"/>
            <a:ext cx="2925720" cy="29718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733920" y="457200"/>
            <a:ext cx="4876560" cy="2590920"/>
          </a:xfrm>
          <a:prstGeom prst="wedgeRoundRectCallout">
            <a:avLst>
              <a:gd name="adj1" fmla="val -32712"/>
              <a:gd name="adj2" fmla="val 59435"/>
              <a:gd name="adj3" fmla="val 16667"/>
            </a:avLst>
          </a:prstGeom>
          <a:solidFill>
            <a:srgbClr val="66ff33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and"/>
              </a:rPr>
              <a:t>Hmmm. 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and"/>
              </a:rPr>
              <a:t>This one looks good.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and"/>
              </a:rPr>
              <a:t>How 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and"/>
              </a:rPr>
              <a:t>can I tell for sure?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6933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cc"/>
                </a:solidFill>
                <a:latin typeface="Arial"/>
              </a:rPr>
              <a:t>What do their URLs reveal about these sites?</a:t>
            </a:r>
            <a:endParaRPr b="0" lang="en-US" sz="40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personal.statecollege.edu/~ejv114/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fi.edu/wright/index.html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house.gov/house/Legproc.html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aolmembers.com/joyciev328/civalwarsong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6933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Remember, the </a:t>
            </a:r>
            <a:r>
              <a:rPr b="0" i="1" lang="en-US" sz="4400" spc="-1" strike="noStrike">
                <a:solidFill>
                  <a:srgbClr val="6600cc"/>
                </a:solidFill>
                <a:latin typeface="Arial"/>
              </a:rPr>
              <a:t>free</a:t>
            </a: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 Web is not your only choice?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73152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you use print sources?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you use Grolier On-line? iConn?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you check with your teacher/librarian for advice?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90360" y="1219320"/>
            <a:ext cx="6933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So, why should we care about all of this?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895480" y="2743200"/>
            <a:ext cx="3429000" cy="30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s will be important for the rest of your life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ou will be using information to make important decisions!</a:t>
            </a:r>
            <a:endParaRPr b="0" lang="en-US" sz="36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car should I buy?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doctor should I choose?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 my child have this surgery?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 I take this medication?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want to be able to be sure that  the information you choose is  current, balanced, relevant, and accurate!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6933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Just as you evaluate </a:t>
            </a:r>
            <a:br>
              <a:rPr sz="4400"/>
            </a:b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your sources . . .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315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teacher will evaluate your work based on the quality of the sources you select.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e carefully.  Don’t settle f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ood enoug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lways counts!</a:t>
            </a:r>
            <a:endParaRPr b="0" lang="en-US" sz="4400" spc="-1" strike="noStrike">
              <a:solidFill>
                <a:srgbClr val="4d4d4d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962520" y="5407200"/>
            <a:ext cx="1523880" cy="14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Evaluation is important!</a:t>
            </a: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Learn to be fussy!</a:t>
            </a:r>
            <a:endParaRPr b="0" lang="en-US" sz="6600" spc="-1" strike="noStrike">
              <a:solidFill>
                <a:srgbClr val="66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6933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It’s okay to be confused</a:t>
            </a:r>
            <a:r>
              <a:rPr b="0" lang="en-US" sz="4400" spc="-1" strike="noStrike">
                <a:solidFill>
                  <a:srgbClr val="6600cc"/>
                </a:solidFill>
                <a:latin typeface="Comic Sans MS"/>
              </a:rPr>
              <a:t>!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752120"/>
            <a:ext cx="73152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billions of websites out there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of them are not good for reports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imes it’s very hard to tell the good from the bad.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imes Web authors don’t want you to understand the difference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620120" y="304920"/>
            <a:ext cx="119988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895120"/>
            <a:ext cx="5715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ember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yone can publish anyth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 the Web!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 is your job, as a researcher, to look for quality!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410080" y="1905120"/>
            <a:ext cx="30290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990720" y="1905120"/>
            <a:ext cx="7315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d4d4d"/>
                </a:solidFill>
                <a:latin typeface="Times New Roman"/>
              </a:rPr>
              <a:t>In the old days, we had good old print to rely on.  Books, newspapers, and magazines still go through a filtering process for quality.  Before they are published, they are double-checked by authors and edited for accuracy by a variety of professionals.  This is NOT the case with material on the free Web.  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19320" y="609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066680" y="304920"/>
            <a:ext cx="1295640" cy="1133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581280" y="228600"/>
            <a:ext cx="1828800" cy="15238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6629400" y="152280"/>
            <a:ext cx="1371600" cy="13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514600" y="3657600"/>
            <a:ext cx="5410080" cy="32004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09480" y="1676520"/>
            <a:ext cx="3200400" cy="1904760"/>
          </a:xfrm>
          <a:prstGeom prst="wedgeEllipseCallout">
            <a:avLst>
              <a:gd name="adj1" fmla="val 49601"/>
              <a:gd name="adj2" fmla="val 85333"/>
            </a:avLst>
          </a:prstGeom>
          <a:solidFill>
            <a:srgbClr val="66ff33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and"/>
              </a:rPr>
              <a:t>Okay, so how 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and"/>
              </a:rPr>
              <a:t>do we know if 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and"/>
              </a:rPr>
              <a:t>a site is good?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76720" y="0"/>
            <a:ext cx="5486400" cy="2743200"/>
          </a:xfrm>
          <a:prstGeom prst="wedgeEllipseCallout">
            <a:avLst>
              <a:gd name="adj1" fmla="val 12268"/>
              <a:gd name="adj2" fmla="val 85763"/>
            </a:avLst>
          </a:prstGeom>
          <a:solidFill>
            <a:srgbClr val="66ff33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and"/>
              </a:rPr>
              <a:t>Yeah, and how can 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and"/>
              </a:rPr>
              <a:t>we be sure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and"/>
              </a:rPr>
              <a:t>our teacher</a:t>
            </a:r>
            <a:r>
              <a:rPr b="0" lang="en-US" sz="2400" spc="-1" strike="noStrike">
                <a:solidFill>
                  <a:srgbClr val="000000"/>
                </a:solidFill>
                <a:latin typeface="Sand"/>
              </a:rPr>
              <a:t> will 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and"/>
              </a:rPr>
              <a:t>think 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and"/>
              </a:rPr>
              <a:t>it’s good 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and"/>
              </a:rPr>
              <a:t>enough to cite?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6933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Think of CARRDSS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71600" y="137124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Wide Latin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c18b0"/>
                </a:solidFill>
                <a:latin typeface="Wide Lati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IBILITY / AUTHORITY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Wide Latin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87534"/>
                </a:solidFill>
                <a:latin typeface="Wide Lati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CURACY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Wide Latin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f1f1d"/>
                </a:solidFill>
                <a:latin typeface="Wide Lati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IABILITY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Wide Latin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518"/>
                </a:solidFill>
                <a:latin typeface="Wide Lati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VANCE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Wide Latin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84b81"/>
                </a:solidFill>
                <a:latin typeface="Wide Lati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E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Wide Latin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c54ad"/>
                </a:solidFill>
                <a:latin typeface="Wide Lati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CES BEHIND THE TEXT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Wide Latin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c18b0"/>
                </a:solidFill>
                <a:latin typeface="Wide Lati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E AND PURPOSE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c18b0"/>
                </a:solidFill>
                <a:latin typeface="Wide Latin"/>
              </a:rPr>
              <a:t>C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DIBILITY / AUTHORIT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authored the information and why? 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author an expert?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actually published this page?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is a personal page or is it part of the site belonging to a major institution? (Clues pointing to a personal page: ~ tilde, %, users, members)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page hosted by a free server like AOL, Tripod, Geocities?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505320" y="4876920"/>
            <a:ext cx="19047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181480" y="3809880"/>
            <a:ext cx="2659320" cy="2710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838080" y="914400"/>
            <a:ext cx="5181840" cy="3124080"/>
          </a:xfrm>
          <a:prstGeom prst="wedgeEllipseCallout">
            <a:avLst>
              <a:gd name="adj1" fmla="val 46995"/>
              <a:gd name="adj2" fmla="val 83435"/>
            </a:avLst>
          </a:prstGeom>
          <a:solidFill>
            <a:srgbClr val="66ff33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and"/>
              </a:rPr>
              <a:t>But what if I can’t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an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and"/>
              </a:rPr>
              <a:t>find any 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and"/>
              </a:rPr>
              <a:t>author information?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6T00:09:16Z</dcterms:created>
  <dc:creator>Joyce Valenza</dc:creator>
  <dc:description/>
  <dc:language>en-US</dc:language>
  <cp:lastModifiedBy>reading</cp:lastModifiedBy>
  <cp:lastPrinted>2005-11-15T12:14:40Z</cp:lastPrinted>
  <dcterms:modified xsi:type="dcterms:W3CDTF">2011-12-15T19:23:20Z</dcterms:modified>
  <cp:revision>70</cp:revision>
  <dc:subject/>
  <dc:title>Hey there!</dc:title>
</cp:coreProperties>
</file>